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media/image6.gif" ContentType="image/gif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7E55-AA9B-46FD-9246-F1432B6E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E57-2386-4B1B-84B4-48819671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903-B6F9-468C-B615-3E42E247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5648-C1C2-4C2A-A09D-04F60F47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772-ABFF-4596-9A34-CDF4F556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A6A1-A084-448B-B69E-65925160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F8B-F53A-4147-A9EA-C49656DB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153B-3D47-453F-ADC5-9B28A777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15C-E954-4F4C-BAC7-01122473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7A26-4B48-4EF2-AE8A-915D6589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85C7-C3D7-4EFC-9EDD-9928F5FF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BBD-8FCB-484C-B215-B73E2F88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3A49-75AC-4849-9242-2C5222744F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457200"/>
            <a:ext cx="7543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olcanoe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792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Hot Spot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29718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Hawaiian Islands formed one by one over millions of years as the Pacific Plate drifted over a HOT SPO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33520" y="838080"/>
            <a:ext cx="830556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 string of islands formed by volcanoes along a deep ocean tren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Island Ar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3733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EXAMPLES:  CARIBBEAN, JAPAN, NEW ZEALAND, PHILLIP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Name two types of volcanic erup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Quiet</a:t>
            </a:r>
            <a:br>
              <a:rPr sz="8800"/>
            </a:b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Explosiv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Name and explain the three “life stages” of a volcan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762120"/>
            <a:ext cx="84582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Active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- live </a:t>
            </a:r>
            <a:br>
              <a:rPr sz="6000"/>
            </a:b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Dormant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- sleeping</a:t>
            </a:r>
            <a:br>
              <a:rPr sz="6000"/>
            </a:b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Extinct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 -</a:t>
            </a: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dea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y is a volcano considered a constructive forc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omic Sans MS"/>
              </a:rPr>
              <a:t>It builds up mountains and landmasses on Earth’s surfa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happens when a volcano erup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380880"/>
          <a:ext cx="8305920" cy="6019920"/>
        </p:xfrm>
        <a:graphic>
          <a:graphicData uri="http://schemas.openxmlformats.org/drawingml/2006/table">
            <a:tbl>
              <a:tblPr/>
              <a:tblGrid>
                <a:gridCol w="2076480"/>
                <a:gridCol w="2114640"/>
                <a:gridCol w="2038320"/>
                <a:gridCol w="207648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forms, Magma, L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ffffff"/>
                      </a:solidFill>
                    </a:lnL>
                    <a:lnR w="28080">
                      <a:solidFill>
                        <a:srgbClr val="ffffff"/>
                      </a:solidFill>
                    </a:lnR>
                    <a:lnT w="28080">
                      <a:solidFill>
                        <a:srgbClr val="ffffff"/>
                      </a:solidFill>
                    </a:lnT>
                    <a:lnB w="280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648320" y="457200"/>
            <a:ext cx="190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cano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81680" y="53352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s of Volcan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572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olcano Vocabul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23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685800" y="16002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2743200" y="1523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800600" y="1523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0" y="15238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685800" y="25146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2743200" y="24382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4724280" y="25146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5146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7" action="ppaction://hlinksldjump"/>
          </p:cNvPr>
          <p:cNvSpPr/>
          <p:nvPr/>
        </p:nvSpPr>
        <p:spPr>
          <a:xfrm>
            <a:off x="685800" y="35053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8" action="ppaction://hlinksldjump"/>
          </p:cNvPr>
          <p:cNvSpPr/>
          <p:nvPr/>
        </p:nvSpPr>
        <p:spPr>
          <a:xfrm>
            <a:off x="2666880" y="35053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9" action="ppaction://hlinksldjump"/>
          </p:cNvPr>
          <p:cNvSpPr/>
          <p:nvPr/>
        </p:nvSpPr>
        <p:spPr>
          <a:xfrm>
            <a:off x="4800600" y="35053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0" action="ppaction://hlinksldjump"/>
          </p:cNvPr>
          <p:cNvSpPr/>
          <p:nvPr/>
        </p:nvSpPr>
        <p:spPr>
          <a:xfrm>
            <a:off x="6781680" y="358128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1" action="ppaction://hlinksldjump"/>
          </p:cNvPr>
          <p:cNvSpPr/>
          <p:nvPr/>
        </p:nvSpPr>
        <p:spPr>
          <a:xfrm>
            <a:off x="685800" y="44956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2" action="ppaction://hlinksldjump"/>
          </p:cNvPr>
          <p:cNvSpPr/>
          <p:nvPr/>
        </p:nvSpPr>
        <p:spPr>
          <a:xfrm>
            <a:off x="2666880" y="45720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13" action="ppaction://hlinksldjump"/>
          </p:cNvPr>
          <p:cNvSpPr/>
          <p:nvPr/>
        </p:nvSpPr>
        <p:spPr>
          <a:xfrm>
            <a:off x="4800600" y="44956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14" action="ppaction://hlinksldjump"/>
          </p:cNvPr>
          <p:cNvSpPr/>
          <p:nvPr/>
        </p:nvSpPr>
        <p:spPr>
          <a:xfrm>
            <a:off x="6858000" y="449568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5" action="ppaction://hlinksldjump"/>
          </p:cNvPr>
          <p:cNvSpPr/>
          <p:nvPr/>
        </p:nvSpPr>
        <p:spPr>
          <a:xfrm>
            <a:off x="685800" y="55627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16" action="ppaction://hlinksldjump"/>
          </p:cNvPr>
          <p:cNvSpPr/>
          <p:nvPr/>
        </p:nvSpPr>
        <p:spPr>
          <a:xfrm>
            <a:off x="2819520" y="55627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rId17" action="ppaction://hlinksldjump"/>
          </p:cNvPr>
          <p:cNvSpPr/>
          <p:nvPr/>
        </p:nvSpPr>
        <p:spPr>
          <a:xfrm>
            <a:off x="4876920" y="54864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8" action="ppaction://hlinksldjump"/>
          </p:cNvPr>
          <p:cNvSpPr/>
          <p:nvPr/>
        </p:nvSpPr>
        <p:spPr>
          <a:xfrm>
            <a:off x="6781680" y="55627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4771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FINAL JEOPAR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304920"/>
            <a:ext cx="83055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Liquid magma rises through cracks in the crust.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236232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1371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.  As magma rises, pressure decreases and dissolved gas forms bub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27432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3.  An opening develops in weak rock on the su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403848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4.  Gases and magma erupt out of the volc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geothermal energy?  What are 3 different use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3808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00"/>
                </a:solidFill>
                <a:latin typeface="Comic Sans MS"/>
              </a:rPr>
              <a:t>Energy from water or steam that has been heated by magma.</a:t>
            </a:r>
            <a:br>
              <a:rPr sz="4500"/>
            </a:br>
            <a:br>
              <a:rPr sz="4500"/>
            </a:br>
            <a:r>
              <a:rPr b="1" lang="en-US" sz="4500" spc="-1" strike="noStrike">
                <a:solidFill>
                  <a:srgbClr val="ffff00"/>
                </a:solidFill>
                <a:latin typeface="Comic Sans MS"/>
              </a:rPr>
              <a:t>W</a:t>
            </a: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ter -Heat homes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Steam – Source of electricity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Natural spas - Relax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236232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the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“Ring of Fire”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3808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00"/>
                </a:solidFill>
                <a:latin typeface="Comic Sans MS"/>
              </a:rPr>
              <a:t>A major belt of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Comic Sans MS"/>
              </a:rPr>
              <a:t>volcanoes that rims the </a:t>
            </a:r>
            <a:br>
              <a:rPr sz="5000"/>
            </a:br>
            <a:r>
              <a:rPr b="1" lang="en-US" sz="5000" spc="-1" strike="noStrike">
                <a:solidFill>
                  <a:srgbClr val="ffff00"/>
                </a:solidFill>
                <a:latin typeface="Comic Sans MS"/>
              </a:rPr>
              <a:t>Pacific Ocea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" action="ppaction://hlinksldjump"/>
          </p:cNvPr>
          <p:cNvSpPr/>
          <p:nvPr/>
        </p:nvSpPr>
        <p:spPr>
          <a:xfrm>
            <a:off x="236232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factors affect the thickness/thinness of magma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380880"/>
            <a:ext cx="91440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Magma’s TEMPERATURE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The hotter the magma the more fluid it is)</a:t>
            </a:r>
            <a:br>
              <a:rPr sz="2800"/>
            </a:br>
            <a:br>
              <a:rPr sz="2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mount of SILICA in magma</a:t>
            </a:r>
            <a:br>
              <a:rPr sz="4000"/>
            </a:b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(The more silica the thicker the magma)</a:t>
            </a:r>
            <a:br>
              <a:rPr sz="2800"/>
            </a:br>
            <a:br>
              <a:rPr sz="2800"/>
            </a:br>
            <a:r>
              <a:rPr b="1" lang="en-US" sz="4000" spc="-1" strike="noStrike">
                <a:solidFill>
                  <a:srgbClr val="ffff00"/>
                </a:solidFill>
                <a:latin typeface="Comic Sans MS"/>
              </a:rPr>
              <a:t>Amount of GAS in magma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236232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ype of cooler and slower-moving lava produced during quiet volcanic erup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ff00"/>
                </a:solidFill>
                <a:latin typeface="Comic Sans MS"/>
              </a:rPr>
              <a:t>aa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2286000" y="5195880"/>
            <a:ext cx="6400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st moving </a:t>
            </a:r>
            <a:r>
              <a:rPr b="1" lang="en-US" sz="6000" spc="-1" strike="noStrike">
                <a:solidFill>
                  <a:srgbClr val="ff3300"/>
                </a:solidFill>
                <a:latin typeface="Comic Sans MS"/>
              </a:rPr>
              <a:t>HOT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la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he large hole at the top of a volcano formed when the roof of a volcano’s magma chamber collaps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6324120" y="4723920"/>
            <a:ext cx="21337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Comic Sans MS"/>
              </a:rPr>
              <a:t>Pahoehoe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2286000" y="5195880"/>
            <a:ext cx="6400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Name five types of landforms created from lava and as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Shield volcanoe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Composite volcanoe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Cinder Cone volcanoe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Lava plateau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Calder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2286000" y="5195880"/>
            <a:ext cx="640080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3808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abel: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  Crater, Vent, Side    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Vent, Lava, Pipe, 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gma Chamb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2286000" y="6019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3505320"/>
            <a:ext cx="3124440" cy="2595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438280" y="434340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lick volcano for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5353" t="0" r="5409" b="25067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0">
            <a:noFill/>
          </a:ln>
        </p:spPr>
      </p:pic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2286000" y="609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rcRect l="4095" t="12600" r="4102" b="10519"/>
          <a:stretch/>
        </p:blipFill>
        <p:spPr>
          <a:xfrm>
            <a:off x="380880" y="380880"/>
            <a:ext cx="8382240" cy="6172200"/>
          </a:xfrm>
          <a:prstGeom prst="rect">
            <a:avLst/>
          </a:prstGeom>
          <a:ln w="0">
            <a:noFill/>
          </a:ln>
        </p:spPr>
      </p:pic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2362320" y="56386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Name five types of landforms created by Magma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Volcanic Neck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Dike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Sill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Batholiths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Dome Mountai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 am caused by quiet eruptions and I have a gentle sloping mountain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am I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Shield Volca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81532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CALDER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562720" y="3389400"/>
            <a:ext cx="213336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990720"/>
            <a:ext cx="7543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I am caused by explosive eruptions and I have a cone shape.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am I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209680" y="4876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Cinder Cone Volca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2286000" y="609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422892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9907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I have layers of lava alternating with layers of ash, cinders, and bombs caused by explosive and quiet eruptions. I have a tall, cone-shaped mountain.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What am I?</a:t>
            </a: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09680" y="487692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mic Sans MS"/>
              </a:rPr>
              <a:t>Composite Volcan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609588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24399"/>
          <a:stretch/>
        </p:blipFill>
        <p:spPr>
          <a:xfrm>
            <a:off x="2057400" y="1905120"/>
            <a:ext cx="510552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85800" y="12193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60199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457200"/>
            <a:ext cx="8229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Many volcanoes occur on islands, near boundaries where two oceanic plates collide.  One plate dives under the other plate creating a deep-ocean trench.  The plate sinks into the mantle where it melts forming magma.  The magma seeps upward breaking through the ocean floor creating volcanoes or island arcs.</a:t>
            </a:r>
            <a:br>
              <a:rPr sz="3100"/>
            </a:br>
            <a:r>
              <a:rPr b="0" lang="en-US" sz="3100" spc="-1" strike="noStrike">
                <a:solidFill>
                  <a:srgbClr val="ffffff"/>
                </a:solidFill>
                <a:latin typeface="Comic Sans MS"/>
              </a:rPr>
              <a:t>What is the process by which oceanic crust sinks beneath a deep-ocean trench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38280" y="51814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Subducti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 pool formed by groundwater that has risen to the surface after being heated by a nearby body of mag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Hot Spring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quid magma that reaches the surface; also the rock formed when liquid lava harde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00"/>
                </a:solidFill>
                <a:latin typeface="Comic Sans MS"/>
              </a:rPr>
              <a:t>Lava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14400" y="838080"/>
            <a:ext cx="7543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n area where magma from deep with the mantle melts through the crust 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2057400" y="472428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2286000" y="57150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RETURN TO GAME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23:23:19Z</dcterms:created>
  <dc:creator>Jeanine Matone</dc:creator>
  <dc:description/>
  <dc:language>en-US</dc:language>
  <cp:lastModifiedBy>Jeanine Matone</cp:lastModifiedBy>
  <dcterms:modified xsi:type="dcterms:W3CDTF">2005-01-13T04:44:50Z</dcterms:modified>
  <cp:revision>16</cp:revision>
  <dc:subject/>
  <dc:title>Slide 1</dc:title>
</cp:coreProperties>
</file>